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49.png" ContentType="image/png"/>
  <Override PartName="/ppt/media/image47.jpeg" ContentType="image/jpeg"/>
  <Override PartName="/ppt/media/image46.jpeg" ContentType="image/jpeg"/>
  <Override PartName="/ppt/media/image15.wmf" ContentType="image/x-wmf"/>
  <Override PartName="/ppt/media/image28.jpeg" ContentType="image/jpeg"/>
  <Override PartName="/ppt/media/image41.jpeg" ContentType="image/jpeg"/>
  <Override PartName="/ppt/media/image23.wmf" ContentType="image/x-wmf"/>
  <Override PartName="/ppt/media/image62.png" ContentType="image/png"/>
  <Override PartName="/ppt/media/image51.jpeg" ContentType="image/jpeg"/>
  <Override PartName="/ppt/media/image12.wmf" ContentType="image/x-wmf"/>
  <Override PartName="/ppt/media/image20.jpeg" ContentType="image/jpeg"/>
  <Override PartName="/ppt/media/image59.wmf" ContentType="image/x-wmf"/>
  <Override PartName="/ppt/media/image6.jpeg" ContentType="image/jpeg"/>
  <Override PartName="/ppt/media/image60.png" ContentType="image/png"/>
  <Override PartName="/ppt/media/image36.jpeg" ContentType="image/jpeg"/>
  <Override PartName="/ppt/media/image2.jpeg" ContentType="image/jpeg"/>
  <Override PartName="/ppt/media/image37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14.wmf" ContentType="image/x-wmf"/>
  <Override PartName="/ppt/media/image53.png" ContentType="image/png"/>
  <Override PartName="/ppt/media/image24.wmf" ContentType="image/x-wmf"/>
  <Override PartName="/ppt/media/image22.wmf" ContentType="image/x-wmf"/>
  <Override PartName="/ppt/media/image21.jpeg" ContentType="image/jpeg"/>
  <Override PartName="/ppt/media/image18.jpeg" ContentType="image/jpeg"/>
  <Override PartName="/ppt/media/image55.wmf" ContentType="image/x-wmf"/>
  <Override PartName="/ppt/media/image19.wmf" ContentType="image/x-wmf"/>
  <Override PartName="/ppt/media/image6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54.wmf" ContentType="image/x-wmf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35.jpeg" ContentType="image/jpeg"/>
  <Override PartName="/ppt/media/image50.wmf" ContentType="image/x-wmf"/>
  <Override PartName="/ppt/media/image13.wmf" ContentType="image/x-wmf"/>
  <Override PartName="/ppt/media/image40.jpeg" ContentType="image/jpeg"/>
  <Override PartName="/ppt/media/image42.jpeg" ContentType="image/jpeg"/>
  <Override PartName="/ppt/media/image43.png" ContentType="image/png"/>
  <Override PartName="/ppt/media/image63.png" ContentType="image/png"/>
  <Override PartName="/ppt/media/image57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1DD7-5F3D-4E99-BB58-A3581ACD1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092120"/>
            <a:ext cx="907272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257F-1923-4EFD-859C-25116A4AE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59876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09212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09212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0C14-1E34-41D0-89C5-0D3F05B35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29210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598760"/>
            <a:ext cx="29210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8760"/>
            <a:ext cx="29210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092120"/>
            <a:ext cx="29210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092120"/>
            <a:ext cx="29210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92120"/>
            <a:ext cx="29210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022D-1E4D-42B9-986D-D4E73A60A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F97E-9516-4F6C-B5B4-768890C88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FA88-9D6C-44A6-99B1-F7B93DEEA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44272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598760"/>
            <a:ext cx="44272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CE2E-1F55-4816-85F5-078DF3F77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3507-2E6E-470C-9624-63587642C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CC1A-8FA2-4DBE-B440-30A311717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598760"/>
            <a:ext cx="44272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09212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B620-DE28-4FB6-BB47-A36600CB5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44272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59876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09212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852D-1BEB-4383-9699-630094793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598760"/>
            <a:ext cx="44272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092120"/>
            <a:ext cx="907272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70DD-8DE6-44C3-B433-F21D0F8B7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15200"/>
            <a:ext cx="1008072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Comic Sans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30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A02C2-825A-4F5E-BD15-4CDAABD3177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upport.microsoft.com/kb/818043/en-us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www.vigorpro.com/" TargetMode="External"/><Relationship Id="rId2" Type="http://schemas.openxmlformats.org/officeDocument/2006/relationships/image" Target="../media/image54.wmf"/><Relationship Id="rId3" Type="http://schemas.openxmlformats.org/officeDocument/2006/relationships/image" Target="../media/image54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jpeg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www.vigorpro.com/" TargetMode="External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53920" y="1389240"/>
            <a:ext cx="788688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Arial"/>
                <a:ea typeface="標楷體"/>
              </a:rPr>
              <a:t>Product Roadmap and Feature Updat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08000" y="5364000"/>
            <a:ext cx="7391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ts val="2288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0520"/>
                <a:tab algn="l" pos="8226360"/>
                <a:tab algn="l" pos="9139320"/>
                <a:tab algn="l" pos="10055160"/>
                <a:tab algn="l" pos="10953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標楷體"/>
              </a:rPr>
              <a:t>Tom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ts val="2288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0520"/>
                <a:tab algn="l" pos="8226360"/>
                <a:tab algn="l" pos="9139320"/>
                <a:tab algn="l" pos="10055160"/>
                <a:tab algn="l" pos="10953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標楷體"/>
              </a:rPr>
              <a:t>Marketing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GMP &amp; Multicas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63640" y="1692360"/>
            <a:ext cx="81835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IGMP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Internet Group Manage Protocol)</a:t>
            </a:r>
            <a:endParaRPr b="1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ost/router membership signalling protoco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osts use IGMP to join/leave group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Routers use IGMP to build forwarding stat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GMP Proxy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earn and proxy group membership inform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rward multicast packets based upon that inform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  <a:ea typeface="SimSun"/>
              </a:rPr>
              <a:t>IGMP Snoop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416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noop on the IGMP negotiation between host and serv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428760" indent="-32400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termine which Ethernet ports want what traffic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新細明體"/>
              </a:rPr>
              <a:t>IGMP membership report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86040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新細明體"/>
              </a:rPr>
              <a:t>IGMP leave message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428760" indent="-32400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SimSun"/>
              </a:rPr>
              <a:t>Avoid the flooding of multicast traffics on all Ethernet port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GMP Proxy/Snooping Sett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7280" y="1835280"/>
            <a:ext cx="94870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Centralized System Manager -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700e/G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Cost competivity ADSL2/2+ security rout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Integrated with 802.11g WLA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Wireless Securit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WEP/WPA/WPA2 Encryption, MAC Address Control and  Wireless LAN Isolation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IGMP Proxy &amp; Snooping for video stream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rewall supports IP Filter, MAC Address Control, DoS/DDoS Protection and URL Content Filt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552600"/>
            <a:ext cx="907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7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41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igh-integration with ADSL2+, 802.11g, VoIP and ISD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Wireless Securit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WEP/WPA/WPA2 Encryption, MAC Address Control, Wireless LAN Isolation and Wireless VLAN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WDS (Wireless Distribution System) and Wireless AP Discover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IGMP Proxy &amp; Snooping for video stream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Multiple PVCs for triple-play applic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52600"/>
            <a:ext cx="907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7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599840"/>
            <a:ext cx="90741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wo FXS ports with six SIP registrars suppor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ne PSTN/ISDN Loop-through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upplementary services support Call Hold, Call Waiting, Call Transfer, Call Forwarding, DND (Do Not Disturb), Hotline and T.38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Qo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ass-based bandwidth guarantee by user-defined traffic categorie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-level priority for each direction (Inbound/Outbound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Assure bandwidth for own VoIP service</a:t>
            </a:r>
            <a:r>
              <a:rPr b="1" lang="en-GB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552600"/>
            <a:ext cx="907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7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41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TTPS and SSH secure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wo VPN tunnels for teleworker and LAN-to-LA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utomatic ISDN backup when ADSL2+ fail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entralized System Manager -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2700 Product Lin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610000"/>
          <a:ext cx="10072800" cy="33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0000"/>
                    <a:ext cx="1007280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8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igh-integration with ADSL2+, 802.11g, VoIP and ISD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2nd WAN provides fail-over and policy-based load balanc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uperG</a:t>
            </a:r>
            <a:r>
              <a:rPr b="1" lang="en-GB" sz="2800" spc="-1" strike="noStrike" baseline="25000">
                <a:solidFill>
                  <a:srgbClr val="800000"/>
                </a:solidFill>
                <a:latin typeface="Arial"/>
              </a:rPr>
              <a:t>TM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 provides up to 108Mbps data rat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Wireless Securit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WEP/WPA/WPA2 Encryption, MAC Address Control, Wireless LAN Isolation, Wireless VLAN and 802.1x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hentication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WDS (Wireless Distribution System), Wireless AP Discovery and Rate Control suppor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28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wo FXS ports with six SIP registrars suppor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ISDN BRI interface for VoIP on-net/off-net calls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upplementary servic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Call Hold, Call Waiting, Call Transfer, Call Forwarding, DND (Do Not Disturb), Hotline and T.38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Qo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ass-based bandwidth guarantee by user-defined traffic categorie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-level priority for each direction (Inbound/Outbound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Assure bandwidth for own VoIP servic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28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TTPS and SSH secure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32 VPN tunnels with hardware-based DES/3DES encryp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ne USB 1.1 host for USB print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utomatic ISDN backup when ADSL2+ fail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2800 Product Lin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6000" y="2627280"/>
          <a:ext cx="969300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627280"/>
                    <a:ext cx="96930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215640"/>
            <a:ext cx="9360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omparison of ADSL2+ CP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9280" y="1258920"/>
          <a:ext cx="876456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258920"/>
                    <a:ext cx="876456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P Schedul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52360" y="1547640"/>
          <a:ext cx="7850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47640"/>
                    <a:ext cx="7850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80000" y="1403280"/>
            <a:ext cx="2881440" cy="4594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836640" y="1293480"/>
            <a:ext cx="9360" cy="4714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1403280"/>
            <a:ext cx="2305080" cy="4608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11640" y="1403280"/>
            <a:ext cx="4249800" cy="3384720"/>
            <a:chOff x="5111640" y="1403280"/>
            <a:chExt cx="4249800" cy="3384720"/>
          </a:xfrm>
        </p:grpSpPr>
        <p:sp>
          <p:nvSpPr>
            <p:cNvPr id="103" name=""/>
            <p:cNvSpPr/>
            <p:nvPr/>
          </p:nvSpPr>
          <p:spPr>
            <a:xfrm>
              <a:off x="5111640" y="1403280"/>
              <a:ext cx="4249800" cy="3384720"/>
            </a:xfrm>
            <a:custGeom>
              <a:avLst/>
              <a:gdLst>
                <a:gd name="textAreaLeft" fmla="*/ 0 w 4249800"/>
                <a:gd name="textAreaRight" fmla="*/ 4250160 w 4249800"/>
                <a:gd name="textAreaTop" fmla="*/ 0 h 3384720"/>
                <a:gd name="textAreaBottom" fmla="*/ 3385080 h 33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26" y="0"/>
                  </a:lnTo>
                  <a:lnTo>
                    <a:pt x="21600" y="10800"/>
                  </a:lnTo>
                  <a:lnTo>
                    <a:pt x="1872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89560" y="1403280"/>
              <a:ext cx="837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324000"/>
            <a:ext cx="100011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  <a:ea typeface="新細明體"/>
              </a:rPr>
              <a:t>ADSL2+ CPE Road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019920"/>
            <a:ext cx="8653680" cy="1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08000" y="3419640"/>
            <a:ext cx="1871640" cy="55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800V/V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7080" y="1476360"/>
            <a:ext cx="2016000" cy="68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2800VG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3280" y="4356000"/>
            <a:ext cx="1871640" cy="54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800/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0000" y="6084720"/>
            <a:ext cx="11109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  <a:ea typeface="新細明體"/>
              </a:rPr>
              <a:t>Q4 ‘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19640" y="6084720"/>
            <a:ext cx="1111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  <a:ea typeface="新細明體"/>
              </a:rPr>
              <a:t>Q1 ‘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2360" y="2484360"/>
            <a:ext cx="1942920" cy="62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800i/G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56000" y="4356000"/>
            <a:ext cx="1942920" cy="60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700/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2000" y="5219640"/>
            <a:ext cx="1871640" cy="57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700e/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6720" y="6084720"/>
            <a:ext cx="94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  <a:ea typeface="細明體"/>
              </a:rPr>
              <a:t>Q2 ‘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7640" y="3419640"/>
            <a:ext cx="1943280" cy="599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700V/V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(2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48360" y="3274920"/>
            <a:ext cx="2016000" cy="67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700V/V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(2S1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0000" y="2340000"/>
            <a:ext cx="2016360" cy="67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Vigor 2700Gi/VG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 u="sng">
                <a:solidFill>
                  <a:srgbClr val="663300"/>
                </a:solidFill>
                <a:uFillTx/>
                <a:latin typeface="Verdana"/>
                <a:ea typeface="新細明體"/>
              </a:rPr>
              <a:t>(Annex B onl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Centralized System Manager -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G.SHDSL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599840"/>
            <a:ext cx="907416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ymmetrical high-data-rate DS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G.SHDSL will be a significant factor in the rapidly growing worldwide marketplace for business-class and residential SDSL.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ffers data at 192Kbps to 2.3Mbps over a single pair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riple-Play Applicati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2843280"/>
            <a:ext cx="96012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G.SHDSL - Applicati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Replace old leased-line (E1/T1) solu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2771640"/>
            <a:ext cx="774072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G.SHDSL - Applicati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360" y="1598760"/>
            <a:ext cx="445932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Enterprise Campu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760" y="1598760"/>
            <a:ext cx="4460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0840" y="3024360"/>
            <a:ext cx="472284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76960" y="2603520"/>
            <a:ext cx="44146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31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G.SHDSL security rout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ymmetrical data rates up-to 2.3 Mbps ( Vigor3100 with one pair ) and 4.6 Mbps ( Vigor3120 with two pairs 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Configurable CPE/CO for Back-to-Back Applic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Qo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ass-based bandwidth guarantee by user-defined traffic categorie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-level priority for each direction (Inbound/Outbound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310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TTPS and SSH secure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32 VPN tunnels with hardware-based DES/3DES encryp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ne USB 1.1 host for USB print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3100 Product Lin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11280" y="2627280"/>
          <a:ext cx="7188120" cy="18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627280"/>
                    <a:ext cx="71881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Centralized System Manager -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ual-WA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icy-Based Load-Balanc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ynamic / Static weighted round robi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ail-ov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Bandwidth On Demand (BOD)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ill be available on Vigor2920 and Vigor2800 (2nd WAN)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oad-balance Policy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tructurally similar to routing table but more complet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6360" y="2484360"/>
            <a:ext cx="90295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Weight Setting for Dual-WA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6360" y="1835280"/>
            <a:ext cx="8991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551160"/>
            <a:ext cx="907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92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igh-integration with 802.11g, VoIP and ISD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Dual-WAN provides fail-over and policy-based load balanc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uperG</a:t>
            </a:r>
            <a:r>
              <a:rPr b="1" lang="en-GB" sz="2800" spc="-1" strike="noStrike" baseline="25000">
                <a:solidFill>
                  <a:srgbClr val="800000"/>
                </a:solidFill>
                <a:latin typeface="Arial"/>
              </a:rPr>
              <a:t>TM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 provides up to 108Mbps data rat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Wireless Securit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WEP/WPA/WPA2 Encryption, MAC Address Control, Wireless LAN Isolation, Wireless VLAN and 802.1x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hentication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WDS (Wireless Distribution System), Wireless AP Discovery and Rate Contro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ort / VLAN and PVC Mapp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2843280"/>
            <a:ext cx="96692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551160"/>
            <a:ext cx="907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92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457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wo FXS ports with six SIP registrar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ISDN BRI interface for VoIP on-net/off-net calls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upplementary servic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Call Hold, Call Waiting, Call Transfer, Call Forwarding, DND (Do Not Disturb), Hotline and T.38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Qo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ass-based bandwidth guarantee by user-defined traffic categorie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-level priority for each direction (Inbound/Outbound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Assure bandwidth for own VoIP servic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551160"/>
            <a:ext cx="907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igor2920 Seri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720" y="1598400"/>
            <a:ext cx="907416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rewall supports IP Filter, MAC Address Control, DoS/DDoS Protection, Web/URL Content Filter and IM/P2P Block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HTTPS and SSH secure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32 VPN tunnels with hardware-based DES/3DES encryp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ne USB 1.1 host for USB print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utomatic ISDN backup when WAN connection fail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2920 product Lin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Vigor2920 will be available in M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0000" y="2627280"/>
          <a:ext cx="6975360" cy="33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2627280"/>
                    <a:ext cx="69753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arison Between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Vigor2900 &amp; Vigor2920</a:t>
            </a:r>
            <a:endParaRPr b="1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84360" y="2050920"/>
          <a:ext cx="7018200" cy="27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2050920"/>
                    <a:ext cx="70182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Centralized System Manager –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RoHS Impac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Vigor2500, Vigor2600 and Vigor2900 will be phase-out and replaced by Vigor2700, Vigor2800 and Vigor292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ther products will be compliant before 1st of Jul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RoHS Complianc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08000" y="1403280"/>
          <a:ext cx="829152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403280"/>
                    <a:ext cx="82915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Centralized System Manager –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UTM Solution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New VPN Feature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AT Traversal (NAT-T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ad Peer Detection (DPD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PSec Pass-through NA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he IPSec tunnel might be not established when a NAT device between two peer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ulti-PVC Sett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6360" y="2195640"/>
            <a:ext cx="8978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NAT Traversal (NAT-T)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FC-3947 and RFC-3948 propose a solu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You could use DrayTek Smart VPN Client, but need to update your Windows XP/2000 (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pport.microsoft.com/kb/818043/en-u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47640" y="4140360"/>
            <a:ext cx="8648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NAT Traversal (NAT-T)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he UDP port 500 need to be opened on firewall if VPN server behind it.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47640" y="3851280"/>
            <a:ext cx="88599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ead Peer Detection (DPD)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FC-3706 standard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nd HELLO/ACK message between two peers to keep IPSec tunnel aliv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nteroperability is better than old mechanism – Ping to Keepaliv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he IPSec tunnel will be re-established after six packets fail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andwidth Managemen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ssion Limi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mit the clients’ NAT session for Internet acces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Bandwidth Limi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trol the Internet access bandwidth for client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ession Limitati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80438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andwidth Limitati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80359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Bind IP to MAC Addres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47640" y="1258920"/>
            <a:ext cx="89535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SDN On-net/Off-ne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ISDN BRI interface for VoIP on-net/off-net calls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upport two VoIP calls in one ISDN-BRI concurrentl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SDN On-ne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76360" y="2843280"/>
            <a:ext cx="8856720" cy="3249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se 1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SDN On-ne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se 2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6360" y="2843280"/>
            <a:ext cx="88596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ulti-PVC Sett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6360" y="2195640"/>
            <a:ext cx="90043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SDN Off-ne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se 1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76360" y="2916360"/>
            <a:ext cx="88567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SDN Off-ne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se 2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7640" y="2916360"/>
            <a:ext cx="8853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entralized System Manager -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 View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web-based centralized management tool with hierarchical networ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outer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irmware upgrad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figuration backup/restor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figuration for multiple router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raffic monitor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yslog server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cure VigorView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VPN connection wizard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-provisioning Server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og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Requiremen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Hardwa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ormal PC with Network 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vic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Vigor 2xxx, 3300 router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 or Windows XP/2000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Web Serv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ache 2.X or Apache 1.X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HP5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uilt in Sqlite support (database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PN Connection Wizard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1908000"/>
            <a:ext cx="77914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rmware Upgrad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1640" y="1187280"/>
            <a:ext cx="9231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720" y="379440"/>
            <a:ext cx="90741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uto-Provision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4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09720"/>
                <a:tab algn="l" pos="1822320"/>
                <a:tab algn="l" pos="2735280"/>
                <a:tab algn="l" pos="3648240"/>
                <a:tab algn="l" pos="4560840"/>
                <a:tab algn="l" pos="5473800"/>
                <a:tab algn="l" pos="6386400"/>
                <a:tab algn="l" pos="7299360"/>
                <a:tab algn="l" pos="8211960"/>
                <a:tab algn="l" pos="9124920"/>
                <a:tab algn="l" pos="10037880"/>
                <a:tab algn="l" pos="1095048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Automatically download configuration and upgrade firmware using HTTP protoco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83250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rovisioning Server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vide the VoIP settings and firmware for device to provis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8760" y="3492360"/>
            <a:ext cx="992196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yslo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e Telnet command “sys name” or Router Name on the Static/Dynamic IP of WUI to change router na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03640" y="2556000"/>
            <a:ext cx="7140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LAN Sett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nable the VLAN setting if you want to isolate the traffic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3059280"/>
            <a:ext cx="897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WUI Configuration Window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odify the same setting for some rout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71640" y="2340000"/>
            <a:ext cx="61786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UI Configuration Scrip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pply one script file to some rout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03640" y="3059280"/>
            <a:ext cx="503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# telnet script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# set system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ys nam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# set domai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ys domainname drayte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Router Status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7640" y="1835280"/>
            <a:ext cx="87883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Online Traffic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47640" y="1763640"/>
            <a:ext cx="88106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Traffic Graph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27280" y="1258920"/>
            <a:ext cx="629748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chedule Lis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8000" y="2411280"/>
            <a:ext cx="7942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ecure VigorView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31640" y="2266920"/>
            <a:ext cx="9257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ecure VigorView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598760"/>
            <a:ext cx="44593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nagement can be via VPN tunnel if router has VPN capabilit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111640" y="1619280"/>
            <a:ext cx="48117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ommand Lo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76360" y="1258920"/>
            <a:ext cx="88423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ystem Lo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76360" y="1258920"/>
            <a:ext cx="87771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LAN ID and PVC Mapping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6000" y="2843280"/>
            <a:ext cx="96692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riple-Play Appli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ADSL2+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SDSL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DrayTek Dual-WAN Produc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RoH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New Features Up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Centralized System Manager - Vigor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TM Solutions – VigorPro101 / VigorPro200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UTM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ified Threat Manage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he unification of Firewall/VPN, Gateway, Anti-Virus, IDP… into a single platform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educe Complexity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新細明體"/>
              </a:rPr>
              <a:t>Integrated functionality, all-in-on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educe management effort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新細明體"/>
              </a:rPr>
              <a:t>Separate device: independent logging and multiple GUI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新細明體"/>
              </a:rPr>
              <a:t>Easy configuration &amp; management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新細明體"/>
              </a:rPr>
              <a:t>Easy troubleshooting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What VigorPro™ Provid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4720" y="152388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ll-in-one security firewal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Unified Anti-Virus, Anti-Intrusion, Firewall, VPN, … threat management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etwork-level protec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lock viruses at the point of network entry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rovide protection of all hosts inside network edge before threats intrud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Hardware-based real-time respons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ICP (Content Inspection Co-Processor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SSI™ (Multi-Stack Stateful Inspection)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aten pending inline scanning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o proxy: high throughput, low latency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What VigorPro™ Provid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tent-based protec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an all major network protocols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an POP3/SMTP/IMAP4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an own VPN tunnel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an FTP 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an HTTP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an ZIP/GZIP/BZIP2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ower TCO( Total cost of Ownership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ll functionality can be managed remotely from HQ, no IT personnel required for branch office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SSI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51076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SSI™(Multi-Stack Stateful Inspection)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patent-pending technology developed by DrayTek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line scanning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o proxy: scan on the fly, real-time response 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ross packets inspection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o file size limitation</a:t>
            </a:r>
            <a:endParaRPr b="1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3791" t="8380" r="8708" b="13995"/>
          <a:stretch/>
        </p:blipFill>
        <p:spPr>
          <a:xfrm>
            <a:off x="990720" y="533520"/>
            <a:ext cx="8534160" cy="5790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76720" y="2590920"/>
            <a:ext cx="5410080" cy="1752480"/>
          </a:xfrm>
          <a:custGeom>
            <a:avLst/>
            <a:gdLst>
              <a:gd name="textAreaLeft" fmla="*/ 1106640 w 5410080"/>
              <a:gd name="textAreaRight" fmla="*/ 3654000 w 5410080"/>
              <a:gd name="textAreaTop" fmla="*/ 234720 h 1752480"/>
              <a:gd name="textAreaBottom" fmla="*/ 1517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38" hR="21600" stAng="10800000" swAng="5400000"/>
                <a:lnTo>
                  <a:pt x="10170" y="0"/>
                </a:lnTo>
                <a:arcTo wR="8838" hR="21600" stAng="-5400000" swAng="3004611"/>
                <a:lnTo>
                  <a:pt x="21123" y="14603"/>
                </a:lnTo>
                <a:lnTo>
                  <a:pt x="18342" y="21600"/>
                </a:lnTo>
                <a:lnTo>
                  <a:pt x="14607" y="14603"/>
                </a:lnTo>
                <a:lnTo>
                  <a:pt x="17199" y="14603"/>
                </a:lnTo>
                <a:arcTo wR="8838" hR="21600" stAng="-2395389" swAng="-2898345"/>
                <a:lnTo>
                  <a:pt x="9504" y="61"/>
                </a:lnTo>
                <a:arcTo wR="8838" hR="21600" stAng="-5506266" swAng="-5293734"/>
                <a:close/>
              </a:path>
              <a:path fill="darkenLess" w="21600" h="21600">
                <a:moveTo>
                  <a:pt x="0" y="21600"/>
                </a:moveTo>
                <a:arcTo wR="8838" hR="21600" stAng="10800000" swAng="5400000"/>
                <a:lnTo>
                  <a:pt x="8838" y="0"/>
                </a:lnTo>
                <a:arcTo wR="8838" hR="21600" stAng="-5400000" swAng="106266"/>
                <a:lnTo>
                  <a:pt x="9504" y="61"/>
                </a:lnTo>
                <a:arcTo wR="8838" hR="21600" stAng="-5506266" swAng="-529373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rcRect l="6918" t="37490" r="18864" b="31245"/>
          <a:stretch/>
        </p:blipFill>
        <p:spPr>
          <a:xfrm>
            <a:off x="533520" y="3548160"/>
            <a:ext cx="3124080" cy="871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29600" y="4876920"/>
            <a:ext cx="977760" cy="868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111160" y="57913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新細明體"/>
              </a:rPr>
              <a:t>vic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6640" y="1343160"/>
            <a:ext cx="297180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915" y="-21355"/>
                </a:moveTo>
                <a:lnTo>
                  <a:pt x="22154" y="5891"/>
                </a:lnTo>
              </a:path>
              <a:path w="21600" h="21600">
                <a:moveTo>
                  <a:pt x="22154" y="0"/>
                </a:moveTo>
                <a:lnTo>
                  <a:pt x="22154" y="21600"/>
                </a:ln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新細明體"/>
              </a:rPr>
              <a:t>Format Parser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6440" y="1924200"/>
            <a:ext cx="297648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2232" y="-42709"/>
                </a:moveTo>
                <a:lnTo>
                  <a:pt x="22153" y="5891"/>
                </a:lnTo>
              </a:path>
              <a:path w="21600" h="21600">
                <a:moveTo>
                  <a:pt x="22153" y="0"/>
                </a:moveTo>
                <a:lnTo>
                  <a:pt x="22153" y="21600"/>
                </a:ln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新細明體"/>
              </a:rPr>
              <a:t>Decoder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424240"/>
            <a:ext cx="297648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2600" y="-29455"/>
                </a:moveTo>
                <a:lnTo>
                  <a:pt x="22153" y="5891"/>
                </a:lnTo>
              </a:path>
              <a:path w="21600" h="21600">
                <a:moveTo>
                  <a:pt x="22153" y="0"/>
                </a:moveTo>
                <a:lnTo>
                  <a:pt x="22153" y="21600"/>
                </a:ln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新細明體"/>
              </a:rPr>
              <a:t>Decompression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36720" y="2700360"/>
            <a:ext cx="8485200" cy="121932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Pro200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024360" y="4140360"/>
            <a:ext cx="3019320" cy="33012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新細明體"/>
              </a:rPr>
              <a:t>Dual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5075280"/>
            <a:ext cx="3024000" cy="36036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新細明體"/>
              </a:rPr>
              <a:t>Up to 2x 100/1000 DMZ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24360" y="5537160"/>
            <a:ext cx="3017520" cy="33012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新細明體"/>
              </a:rPr>
              <a:t>Up to 5x 100/1000 LAN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48000" y="2124000"/>
            <a:ext cx="2160720" cy="36036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新細明體"/>
              </a:rPr>
              <a:t>Anti-Virus Al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48000" y="1619280"/>
            <a:ext cx="2157480" cy="36036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新細明體"/>
              </a:rPr>
              <a:t>IDP Al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6012000"/>
            <a:ext cx="3019320" cy="33012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新細明體"/>
              </a:rPr>
              <a:t>Super G Wireles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4602240"/>
            <a:ext cx="3024000" cy="330120"/>
          </a:xfrm>
          <a:solidFill>
            <a:srgbClr val="c0c0c0">
              <a:alpha val="7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新細明體"/>
              </a:rPr>
              <a:t>1x 100/1000 Monitor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Pro101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87640" y="1763640"/>
            <a:ext cx="60958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Key Feature Comparis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11200" y="1720800"/>
          <a:ext cx="7365600" cy="4064040"/>
        </p:xfrm>
        <a:graphic>
          <a:graphicData uri="http://schemas.openxmlformats.org/drawingml/2006/table">
            <a:tbl>
              <a:tblPr/>
              <a:tblGrid>
                <a:gridCol w="1536480"/>
                <a:gridCol w="1987200"/>
                <a:gridCol w="1998000"/>
                <a:gridCol w="184392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VigorPro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VigorPro200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VigorPro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AV/I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V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4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5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5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W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D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SuperG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11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Supe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Supe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NAT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esktop Enforcemen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 is considered to be supported on VigorPr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rce desktop/laptop inside network follow the security polic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V software installation, get the most updated virus signature</a:t>
            </a:r>
            <a:endParaRPr b="1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ntegration with Data and Voic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2700360"/>
            <a:ext cx="9674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VigorPro, D-SWAT and Servic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-1657" t="18085" r="0" b="-678"/>
          <a:stretch/>
        </p:blipFill>
        <p:spPr>
          <a:xfrm>
            <a:off x="1371600" y="1676520"/>
            <a:ext cx="73803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-SWAT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598760"/>
            <a:ext cx="90727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D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yTek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ecurity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W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rning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nd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nti-attack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T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eam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-1657" t="18085" r="0" b="1885"/>
          <a:stretch/>
        </p:blipFill>
        <p:spPr>
          <a:xfrm>
            <a:off x="4724280" y="3352680"/>
            <a:ext cx="4942080" cy="2818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284" name=""/>
          <p:cNvSpPr/>
          <p:nvPr/>
        </p:nvSpPr>
        <p:spPr>
          <a:xfrm>
            <a:off x="533520" y="2286000"/>
            <a:ext cx="51973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新細明體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Hacking techniqu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Virus sample collection &amp;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Exploit collection &amp;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新細明體"/>
              </a:rPr>
              <a:t>Servi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Security portal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Virus signature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Security advis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News l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新細明體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新細明體"/>
              </a:rPr>
              <a:t>Train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Hacking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Che"/>
              </a:rPr>
              <a:t>Inciden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0880" y="3505320"/>
            <a:ext cx="473076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. End 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purchases VigorPro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rom DrayTek’s res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. Log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新細明體"/>
                <a:hlinkClick r:id="rId1"/>
              </a:rPr>
              <a:t>www.vigorpr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for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. Activate or extend AV/IDP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ervice Flow: AV/IDP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048120" y="2408400"/>
            <a:ext cx="2286000" cy="220968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1646280"/>
            <a:ext cx="0" cy="228600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700000">
            <a:off x="6072840" y="4101120"/>
            <a:ext cx="2514600" cy="19353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91520" y="5303880"/>
            <a:ext cx="380880" cy="441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371600" y="251460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DrayT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Service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781680" y="4846680"/>
            <a:ext cx="381240" cy="5173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7162920" y="4237200"/>
            <a:ext cx="380880" cy="441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5181480" y="4084560"/>
            <a:ext cx="533520" cy="77652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2982960" y="3030480"/>
            <a:ext cx="2259000" cy="1041120"/>
            <a:chOff x="2982960" y="3030480"/>
            <a:chExt cx="2259000" cy="1041120"/>
          </a:xfrm>
        </p:grpSpPr>
        <p:sp>
          <p:nvSpPr>
            <p:cNvPr id="296" name=""/>
            <p:cNvSpPr/>
            <p:nvPr/>
          </p:nvSpPr>
          <p:spPr>
            <a:xfrm>
              <a:off x="3754440" y="3030480"/>
              <a:ext cx="984240" cy="43020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13000" y="3143160"/>
              <a:ext cx="754200" cy="43020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2960" y="3401640"/>
              <a:ext cx="507960" cy="35244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35240" y="3557520"/>
              <a:ext cx="766800" cy="38088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76680" y="3619440"/>
              <a:ext cx="1143000" cy="45216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05320" y="3155760"/>
              <a:ext cx="731880" cy="33804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13320" y="3373200"/>
              <a:ext cx="728640" cy="33804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48160" y="3444840"/>
              <a:ext cx="722160" cy="55548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92280" y="3276360"/>
              <a:ext cx="1467000" cy="557280"/>
            </a:xfrm>
            <a:prstGeom prst="ellipse">
              <a:avLst/>
            </a:pr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048120" y="2971800"/>
            <a:ext cx="2263320" cy="1050120"/>
            <a:chOff x="3048120" y="2971800"/>
            <a:chExt cx="2263320" cy="1050120"/>
          </a:xfrm>
        </p:grpSpPr>
        <p:sp>
          <p:nvSpPr>
            <p:cNvPr id="306" name=""/>
            <p:cNvSpPr/>
            <p:nvPr/>
          </p:nvSpPr>
          <p:spPr>
            <a:xfrm>
              <a:off x="3819600" y="2971800"/>
              <a:ext cx="99540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7" y="7407"/>
                  </a:moveTo>
                  <a:arcTo wR="10800" hR="10800" stAng="-9701355" swAng="8398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547" y="7407"/>
                  </a:moveTo>
                  <a:arcTo wR="10800" hR="10800" stAng="-9701355" swAng="8398360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6080" y="2976480"/>
              <a:ext cx="98460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0" y="7368"/>
                  </a:moveTo>
                  <a:arcTo wR="10800" hR="10800" stAng="-9688447" swAng="8370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560" y="7368"/>
                  </a:moveTo>
                  <a:arcTo wR="10800" hR="10800" stAng="-9688447" swAng="8370582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78160" y="3084120"/>
              <a:ext cx="75744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9" y="13153"/>
                  </a:moveTo>
                  <a:arcTo wR="10800" hR="10800" stAng="10044880" swAng="80691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59" y="13153"/>
                  </a:moveTo>
                  <a:arcTo wR="10800" hR="10800" stAng="10044880" swAng="8069145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2840" y="3089160"/>
              <a:ext cx="749160" cy="42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4" y="13175"/>
                  </a:moveTo>
                  <a:arcTo wR="10800" hR="10800" stAng="10037898" swAng="8061493"/>
                  <a:lnTo>
                    <a:pt x="10800" y="10800"/>
                  </a:lnTo>
                  <a:close/>
                </a:path>
                <a:path fill="none" w="21600" h="21600">
                  <a:moveTo>
                    <a:pt x="264" y="13175"/>
                  </a:moveTo>
                  <a:arcTo wR="10800" hR="10800" stAng="10037898" swAng="8061493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95720" y="3497040"/>
              <a:ext cx="786600" cy="38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69" y="20227"/>
                  </a:moveTo>
                  <a:arcTo wR="10800" hR="10800" stAng="3647790" swAng="73140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69" y="20227"/>
                  </a:moveTo>
                  <a:arcTo wR="10800" hR="10800" stAng="3647790" swAng="7314045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00400" y="3501360"/>
              <a:ext cx="7765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20" y="20255"/>
                  </a:moveTo>
                  <a:arcTo wR="10800" hR="10800" stAng="3665916" swAng="72979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20" y="20255"/>
                  </a:moveTo>
                  <a:arcTo wR="10800" hR="10800" stAng="3665916" swAng="7297939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5160" y="3097080"/>
              <a:ext cx="732960" cy="33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05" y="225"/>
                  </a:moveTo>
                  <a:arcTo wR="10800" hR="10800" stAng="-6103480" swAng="7896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8605" y="225"/>
                  </a:moveTo>
                  <a:arcTo wR="10800" hR="10800" stAng="-6103480" swAng="7896687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79480" y="3101760"/>
              <a:ext cx="723960" cy="32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37" y="219"/>
                  </a:moveTo>
                  <a:arcTo wR="10800" hR="10800" stAng="-6093044" swAng="790916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37" y="219"/>
                  </a:moveTo>
                  <a:arcTo wR="10800" hR="10800" stAng="-6093044" swAng="7909160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70120" y="3307320"/>
              <a:ext cx="841320" cy="36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6" y="2382"/>
                  </a:moveTo>
                  <a:arcTo wR="10800" hR="10800" stAng="-3072516" swAng="52239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6" y="2382"/>
                  </a:moveTo>
                  <a:arcTo wR="10800" hR="10800" stAng="-3072516" swAng="5223916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74800" y="3310920"/>
              <a:ext cx="831960" cy="35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05" y="2333"/>
                  </a:moveTo>
                  <a:arcTo wR="10800" hR="10800" stAng="-3097348" swAng="527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05" y="2333"/>
                  </a:moveTo>
                  <a:arcTo wR="10800" hR="10800" stAng="-3097348" swAng="5272986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2880" y="3394080"/>
              <a:ext cx="74340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5" y="7698"/>
                  </a:moveTo>
                  <a:arcTo wR="10800" hR="10800" stAng="-1001372" swAng="75471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5" y="7698"/>
                  </a:moveTo>
                  <a:arcTo wR="10800" hR="10800" stAng="-1001372" swAng="7547150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08280" y="3399120"/>
              <a:ext cx="73476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1" y="7686"/>
                  </a:moveTo>
                  <a:arcTo wR="10800" hR="10800" stAng="-1005368" swAng="7546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1" y="7686"/>
                  </a:moveTo>
                  <a:arcTo wR="10800" hR="10800" stAng="-1005368" swAng="7546670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8120" y="3344760"/>
              <a:ext cx="536040" cy="35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10" y="20667"/>
                  </a:moveTo>
                  <a:arcTo wR="10800" hR="10800" stAng="6839150" swAng="9147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10" y="20667"/>
                  </a:moveTo>
                  <a:arcTo wR="10800" hR="10800" stAng="6839150" swAng="9147845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52800" y="3349440"/>
              <a:ext cx="526680" cy="34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2" y="20682"/>
                  </a:moveTo>
                  <a:arcTo wR="10800" hR="10800" stAng="6827767" swAng="916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2" y="20682"/>
                  </a:moveTo>
                  <a:arcTo wR="10800" hR="10800" stAng="6827767" swAng="9161120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47960" y="3603960"/>
              <a:ext cx="112104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61" y="16974"/>
                  </a:moveTo>
                  <a:arcTo wR="10800" hR="10800" stAng="2092149" swAng="8020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61" y="16974"/>
                  </a:moveTo>
                  <a:arcTo wR="10800" hR="10800" stAng="2092149" swAng="8020294"/>
                </a:path>
              </a:pathLst>
            </a:custGeom>
            <a:solidFill>
              <a:srgbClr val="b6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52640" y="3609000"/>
              <a:ext cx="1111320" cy="4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9" y="17034"/>
                  </a:moveTo>
                  <a:arcTo wR="10800" hR="10800" stAng="2115515" swAng="7987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9" y="17034"/>
                  </a:moveTo>
                  <a:arcTo wR="10800" hR="10800" stAng="2115515" swAng="7987188"/>
                </a:path>
              </a:pathLst>
            </a:custGeom>
            <a:noFill/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2362320" y="1417680"/>
            <a:ext cx="834840" cy="1200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696080" y="243828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Distributo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res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6324480" y="1523880"/>
            <a:ext cx="1946520" cy="524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6858000" y="2408400"/>
            <a:ext cx="771480" cy="758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7543800" y="4389480"/>
            <a:ext cx="1187280" cy="785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 flipH="1" flipV="1">
            <a:off x="3200040" y="2255760"/>
            <a:ext cx="2514600" cy="23623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347508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355140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  <a:ea typeface="新細明體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  <a:ea typeface="新細明體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458200" y="5562720"/>
            <a:ext cx="11430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Residential SO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SMB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0"/>
          <a:stretch/>
        </p:blipFill>
        <p:spPr>
          <a:xfrm>
            <a:off x="5486400" y="4541760"/>
            <a:ext cx="990720" cy="411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19320" y="198108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  <a:ea typeface="新細明體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1295280"/>
            <a:ext cx="9219960" cy="5181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609480"/>
            <a:ext cx="2666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ea typeface="新細明體"/>
                <a:hlinkClick r:id="rId1"/>
              </a:rPr>
              <a:t>www.vigorpr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vi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011040"/>
            <a:ext cx="3810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Product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2401560"/>
            <a:ext cx="3810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news alert sub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876920"/>
            <a:ext cx="2514600" cy="70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Service  Activ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666880"/>
            <a:ext cx="2514600" cy="100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Registration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1828800"/>
            <a:ext cx="3810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User profil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4804920"/>
            <a:ext cx="38862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Virus/IDP signature dow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9" idx="3"/>
            <a:endCxn id="343" idx="1"/>
          </p:cNvCxnSpPr>
          <p:nvPr/>
        </p:nvCxnSpPr>
        <p:spPr>
          <a:xfrm>
            <a:off x="4190760" y="3174840"/>
            <a:ext cx="533880" cy="7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344" name=""/>
          <p:cNvCxnSpPr>
            <a:stCxn id="339" idx="3"/>
            <a:endCxn id="340" idx="1"/>
          </p:cNvCxnSpPr>
          <p:nvPr/>
        </p:nvCxnSpPr>
        <p:spPr>
          <a:xfrm flipV="1">
            <a:off x="4190760" y="2001600"/>
            <a:ext cx="533880" cy="1173600"/>
          </a:xfrm>
          <a:prstGeom prst="bentConnector3">
            <a:avLst>
              <a:gd name="adj1" fmla="val 50000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345" name=""/>
          <p:cNvCxnSpPr>
            <a:stCxn id="339" idx="3"/>
            <a:endCxn id="337" idx="1"/>
          </p:cNvCxnSpPr>
          <p:nvPr/>
        </p:nvCxnSpPr>
        <p:spPr>
          <a:xfrm flipV="1">
            <a:off x="4190760" y="2569680"/>
            <a:ext cx="533880" cy="605520"/>
          </a:xfrm>
          <a:prstGeom prst="bentConnector3">
            <a:avLst>
              <a:gd name="adj1" fmla="val 50000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346" name=""/>
          <p:cNvCxnSpPr>
            <a:stCxn id="338" idx="3"/>
            <a:endCxn id="341" idx="1"/>
          </p:cNvCxnSpPr>
          <p:nvPr/>
        </p:nvCxnSpPr>
        <p:spPr>
          <a:xfrm flipV="1">
            <a:off x="4190760" y="4973400"/>
            <a:ext cx="533880" cy="411840"/>
          </a:xfrm>
          <a:prstGeom prst="bentConnector3">
            <a:avLst>
              <a:gd name="adj1" fmla="val 50000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347" name=""/>
          <p:cNvCxnSpPr>
            <a:stCxn id="338" idx="3"/>
            <a:endCxn id="348" idx="1"/>
          </p:cNvCxnSpPr>
          <p:nvPr/>
        </p:nvCxnSpPr>
        <p:spPr>
          <a:xfrm>
            <a:off x="4190760" y="5384520"/>
            <a:ext cx="533880" cy="492840"/>
          </a:xfrm>
          <a:prstGeom prst="bentConnector3">
            <a:avLst>
              <a:gd name="adj1" fmla="val 50000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cxnSp>
        <p:nvCxnSpPr>
          <p:cNvPr id="349" name=""/>
          <p:cNvCxnSpPr>
            <a:stCxn id="339" idx="2"/>
            <a:endCxn id="338" idx="0"/>
          </p:cNvCxnSpPr>
          <p:nvPr/>
        </p:nvCxnSpPr>
        <p:spPr>
          <a:xfrm flipV="1" rot="10800000">
            <a:off x="2932920" y="3682800"/>
            <a:ext cx="1080" cy="11944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4724280" y="5708160"/>
            <a:ext cx="38862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D-SW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 business hour tech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3600360"/>
            <a:ext cx="3810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Product maintenance delete/reinstall/rename/transf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39" idx="3"/>
            <a:endCxn id="336" idx="1"/>
          </p:cNvCxnSpPr>
          <p:nvPr/>
        </p:nvCxnSpPr>
        <p:spPr>
          <a:xfrm>
            <a:off x="4190760" y="3174840"/>
            <a:ext cx="5338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sp>
        <p:nvSpPr>
          <p:cNvPr id="351" name=""/>
          <p:cNvSpPr/>
          <p:nvPr/>
        </p:nvSpPr>
        <p:spPr>
          <a:xfrm>
            <a:off x="8077320" y="614520"/>
            <a:ext cx="15238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Submit virus to D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35" idx="2"/>
            <a:endCxn id="339" idx="0"/>
          </p:cNvCxnSpPr>
          <p:nvPr/>
        </p:nvCxnSpPr>
        <p:spPr>
          <a:xfrm flipV="1" rot="10800000">
            <a:off x="2932920" y="1218960"/>
            <a:ext cx="1080" cy="14482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</p:cxnSp>
      <p:sp>
        <p:nvSpPr>
          <p:cNvPr id="353" name=""/>
          <p:cNvSpPr/>
          <p:nvPr/>
        </p:nvSpPr>
        <p:spPr>
          <a:xfrm>
            <a:off x="4267080" y="914400"/>
            <a:ext cx="381024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5680" y="614520"/>
            <a:ext cx="1752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D-SWAT online advi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614520"/>
            <a:ext cx="1676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新細明體"/>
              </a:rPr>
              <a:t>New signature ale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0800000">
            <a:off x="657000" y="1715040"/>
            <a:ext cx="60696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新細明體"/>
              </a:rPr>
              <a:t>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新細明體"/>
              </a:rPr>
              <a:t>ember of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新細明體"/>
              </a:rPr>
              <a:t>V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新細明體"/>
              </a:rPr>
              <a:t>igor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新細明體"/>
              </a:rPr>
              <a:t>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roduct Registration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9417" t="25630" r="18864" b="20465"/>
          <a:stretch/>
        </p:blipFill>
        <p:spPr>
          <a:xfrm>
            <a:off x="609480" y="1768320"/>
            <a:ext cx="5410440" cy="4480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248520" y="3527280"/>
            <a:ext cx="3276360" cy="41436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Product seria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2544840"/>
            <a:ext cx="3276360" cy="41436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Product’s nick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4541760"/>
            <a:ext cx="3276360" cy="71604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Authentication code (MAC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21079" t="19160" r="22773" b="4290"/>
          <a:stretch/>
        </p:blipFill>
        <p:spPr>
          <a:xfrm>
            <a:off x="304920" y="1600200"/>
            <a:ext cx="8001000" cy="47419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roduct Maintenanc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ervice Maintenance</a:t>
            </a:r>
            <a:endParaRPr b="1" lang="en-US" sz="44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rcRect l="22463" t="23475" r="20529" b="8605"/>
          <a:stretch/>
        </p:blipFill>
        <p:spPr>
          <a:xfrm>
            <a:off x="380880" y="1676520"/>
            <a:ext cx="5257800" cy="4130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943600" y="2971800"/>
            <a:ext cx="3276720" cy="41436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Product 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2209680"/>
            <a:ext cx="3276720" cy="41436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Product re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3600" y="3886200"/>
            <a:ext cx="3276720" cy="76212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Product &amp; service is trans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5029200"/>
            <a:ext cx="3276720" cy="762120"/>
          </a:xfr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新細明體"/>
              </a:rPr>
              <a:t>RMA, product is trans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04720" y="303120"/>
            <a:ext cx="9072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新細明體"/>
              </a:rPr>
              <a:t>License Key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120" y="2009880"/>
          <a:ext cx="8762760" cy="2952720"/>
        </p:xfrm>
        <a:graphic>
          <a:graphicData uri="http://schemas.openxmlformats.org/drawingml/2006/table">
            <a:tbl>
              <a:tblPr/>
              <a:tblGrid>
                <a:gridCol w="3151080"/>
                <a:gridCol w="2992320"/>
                <a:gridCol w="2619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I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Dray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Dray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Anti-Vir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Dray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TW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TW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K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D-SWAT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business hour technical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581280" y="3265560"/>
            <a:ext cx="342900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SimSun"/>
              </a:rPr>
              <a:t>Q&amp;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 Chen</cp:lastModifiedBy>
  <dcterms:modified xsi:type="dcterms:W3CDTF">2006-03-21T10:31:37Z</dcterms:modified>
  <cp:revision>191</cp:revision>
  <dc:subject/>
  <dc:title>Slide 1</dc:title>
</cp:coreProperties>
</file>