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28.png" ContentType="image/png"/>
  <Override PartName="/ppt/media/image64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5.jpeg" ContentType="image/jpeg"/>
  <Override PartName="/ppt/media/image25.png" ContentType="image/png"/>
  <Override PartName="/ppt/media/image22.png" ContentType="image/png"/>
  <Override PartName="/ppt/media/image18.jpeg" ContentType="image/jpeg"/>
  <Override PartName="/ppt/media/image52.jpeg" ContentType="image/jpeg"/>
  <Override PartName="/ppt/media/image1.png" ContentType="image/png"/>
  <Override PartName="/ppt/media/image24.png" ContentType="image/png"/>
  <Override PartName="/ppt/media/image55.jpeg" ContentType="image/jpeg"/>
  <Override PartName="/ppt/media/image61.jpeg" ContentType="image/jpeg"/>
  <Override PartName="/ppt/media/image26.png" ContentType="image/png"/>
  <Override PartName="/ppt/media/image17.jpeg" ContentType="image/jpeg"/>
  <Override PartName="/ppt/media/image21.wmf" ContentType="image/x-wmf"/>
  <Override PartName="/ppt/media/image60.jpeg" ContentType="image/jpeg"/>
  <Override PartName="/ppt/media/image30.png" ContentType="image/png"/>
  <Override PartName="/ppt/media/image16.jpeg" ContentType="image/jpeg"/>
  <Override PartName="/ppt/media/image31.png" ContentType="image/png"/>
  <Override PartName="/ppt/media/image2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11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9.png" ContentType="image/png"/>
  <Override PartName="/ppt/media/image32.png" ContentType="image/png"/>
  <Override PartName="/ppt/media/image56.jpeg" ContentType="image/jpeg"/>
  <Override PartName="/ppt/media/image39.wmf" ContentType="image/x-wmf"/>
  <Override PartName="/ppt/media/image38.png" ContentType="image/pn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D45-5503-4F6E-976C-9076E74A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4B8-11DC-4567-A8ED-8D6998EB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1EE-E5F8-4609-BF1D-DF0265B4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CB9-CA97-438C-BDF3-109BA645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940-0DBB-4BCA-94A6-D4CB36A5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5AB-A998-4F20-83C9-DA17C627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161-C80A-4C35-A1B7-FAAC03D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539-A4E6-4C99-BCB9-E664C3E5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E93-6A0D-4FAD-B3C2-B14A08AB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50C-E3C7-4084-8025-0CAEA76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EF5-476F-41C5-9981-0032801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737-33F2-42F9-91BB-96E45F3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FA2-50B8-4CEA-8271-19E67757850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1219320"/>
            <a:ext cx="74674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1295280"/>
            <a:ext cx="693396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oadband Acces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SL2/2+ Solu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920" y="685800"/>
            <a:ext cx="45590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Verdana"/>
              </a:rPr>
              <a:t>DrayTek Corp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8BB-213A-4219-B108-6BF78DA47B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LAN Bridging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889600" cy="40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C98-EAED-402D-BF91-FC3F59C1A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GMP Snooping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yer-2 switch supported IGMP snooping can passively snoop on IGMP Query, Report and Leave packets to learn the IP Multicast group membersh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ffic of a group is only forwarded to ports that have members of that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4419720"/>
            <a:ext cx="4191120" cy="16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846-DA81-4C57-9128-C14AAC25D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C2D-F3C2-4DC0-96A1-AA70D40FA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ystem Benefi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SL Technology - ADSL2/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 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6DD-82BD-4AB5-BD54-ABD7B10A72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opolog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e Master/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533760" cy="1276560"/>
          </a:xfrm>
          <a:prstGeom prst="rect">
            <a:avLst/>
          </a:prstGeom>
          <a:ln w="0">
            <a:noFill/>
          </a:ln>
        </p:spPr>
      </p:pic>
      <p:pic>
        <p:nvPicPr>
          <p:cNvPr id="83" name="03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72428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ED0-E8A5-432B-A868-19CE28521B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pecif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L2/2+ IP D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on outdoor and/or small-size C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DSL Port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168 Ports for Master-Slav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ter Built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/AAL5/SAR on CP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/Ethernet Packet on Network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ing Functions: 802.1d, 802.1p, 802.1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ing Support - IGMP Sno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iltering, Scheduling,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B22-8838-41EE-B26F-B1B326026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pecif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168 (7*24) ADSL2/2+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Giga Fiber Up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8 VCCs per DSL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0 MAC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Multica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94 VLAN ID, Concurrent 512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897-B569-4461-BD63-09749169F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thernet Interfac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ste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r 2x Fiber WAN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Base-LX (SC connector) - Long Haul, Sing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Base-SX (SC connector) - Short Haul, Multi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6x GE (1000) Subtends to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x FE (10/100) MGM for outb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lav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x FE (10/100) WA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x GE (1000)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128-F461-481B-82DE-D29684E010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915-E585-4BA7-BB6D-4D88F704D6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-Play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band FTTB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band Enterpris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 Extensio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/Hospita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e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2BB-9994-445F-9811-FDB2451E52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FFD-677C-4C14-81F4-698DC7655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iple-Play 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Hotel%20application_2" descr=""/>
          <p:cNvPicPr/>
          <p:nvPr/>
        </p:nvPicPr>
        <p:blipFill>
          <a:blip r:embed="rId1"/>
          <a:stretch/>
        </p:blipFill>
        <p:spPr>
          <a:xfrm>
            <a:off x="762120" y="1674720"/>
            <a:ext cx="779616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9E3-2241-4E60-9A77-05339847D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roadband FTTB 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7" name="01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29680" cy="46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ED8-765D-4A0F-836D-97916766D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roadband Enterprise App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9" name="02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A2E-B7BF-49DC-A49D-F7C5CBC45D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roadband DSL-Extens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1" name="p5_DSL_Extension_application_scenaeion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34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8C9-96D4-44F3-9C45-C2BC4F0874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mpus/Hospital 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3" name="Campus" descr=""/>
          <p:cNvPicPr/>
          <p:nvPr/>
        </p:nvPicPr>
        <p:blipFill>
          <a:blip r:embed="rId1"/>
          <a:stretch/>
        </p:blipFill>
        <p:spPr>
          <a:xfrm>
            <a:off x="1219320" y="1585800"/>
            <a:ext cx="6781680" cy="44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053-0371-430F-AE58-84068C1CB7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tel 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5" name="Hotel%20application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999120" cy="411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0B8-C978-4C0D-AA78-09F8F6289D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46B-4E16-4DF1-BDC1-20BE1269AF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 C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 C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 v1/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FTP Firmware Up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Backup/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and/Outb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V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I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69C-B2A8-47B3-B243-266B274BA2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M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elecommunications Management Network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410-3918-4BCA-ABD8-C030855988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ogical Layered Architectur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6580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89320" y="5275440"/>
          <a:ext cx="63324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9320" y="5275440"/>
                    <a:ext cx="633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051440" y="5275440"/>
          <a:ext cx="63324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1440" y="5275440"/>
                    <a:ext cx="633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46720" y="5275440"/>
          <a:ext cx="633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46720" y="5275440"/>
                    <a:ext cx="633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080" y="528336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8640" y="4038480"/>
            <a:ext cx="255600" cy="762120"/>
          </a:xfrm>
          <a:prstGeom prst="rect">
            <a:avLst/>
          </a:prstGeom>
          <a:solidFill>
            <a:srgbClr val="66ff33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4106880"/>
            <a:ext cx="154080" cy="218880"/>
          </a:xfrm>
          <a:prstGeom prst="rect">
            <a:avLst/>
          </a:prstGeom>
          <a:solidFill>
            <a:srgbClr val="66ff33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322880"/>
            <a:ext cx="7920" cy="473040"/>
          </a:xfrm>
          <a:prstGeom prst="rec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94320" y="4168800"/>
            <a:ext cx="41040" cy="98280"/>
          </a:xfrm>
          <a:prstGeom prst="rec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0160" y="4108320"/>
            <a:ext cx="1116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7280" y="4149720"/>
            <a:ext cx="27000" cy="47520"/>
          </a:xfrm>
          <a:prstGeom prst="rec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7280" y="4233960"/>
            <a:ext cx="24120" cy="47520"/>
          </a:xfrm>
          <a:prstGeom prst="rect">
            <a:avLst/>
          </a:prstGeom>
          <a:solidFill>
            <a:srgbClr val="66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8920" y="4556160"/>
            <a:ext cx="176040" cy="7452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30"/>
                </a:moveTo>
                <a:lnTo>
                  <a:pt x="231" y="0"/>
                </a:lnTo>
                <a:lnTo>
                  <a:pt x="284" y="9"/>
                </a:lnTo>
                <a:lnTo>
                  <a:pt x="324" y="37"/>
                </a:lnTo>
                <a:lnTo>
                  <a:pt x="380" y="182"/>
                </a:lnTo>
                <a:lnTo>
                  <a:pt x="416" y="237"/>
                </a:lnTo>
                <a:lnTo>
                  <a:pt x="446" y="265"/>
                </a:lnTo>
                <a:lnTo>
                  <a:pt x="478" y="277"/>
                </a:lnTo>
                <a:lnTo>
                  <a:pt x="527" y="288"/>
                </a:lnTo>
                <a:lnTo>
                  <a:pt x="624" y="29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08000" y="4648320"/>
            <a:ext cx="642960" cy="104760"/>
            <a:chOff x="1008000" y="4648320"/>
            <a:chExt cx="642960" cy="104760"/>
          </a:xfrm>
        </p:grpSpPr>
        <p:sp>
          <p:nvSpPr>
            <p:cNvPr id="130" name=""/>
            <p:cNvSpPr/>
            <p:nvPr/>
          </p:nvSpPr>
          <p:spPr>
            <a:xfrm>
              <a:off x="1008000" y="4648320"/>
              <a:ext cx="642960" cy="104760"/>
            </a:xfrm>
            <a:custGeom>
              <a:avLst/>
              <a:gdLst/>
              <a:ahLst/>
              <a:rect l="l" t="t" r="r" b="b"/>
              <a:pathLst>
                <a:path w="2277" h="410">
                  <a:moveTo>
                    <a:pt x="282" y="0"/>
                  </a:moveTo>
                  <a:lnTo>
                    <a:pt x="2002" y="0"/>
                  </a:lnTo>
                  <a:lnTo>
                    <a:pt x="2275" y="372"/>
                  </a:lnTo>
                  <a:lnTo>
                    <a:pt x="2277" y="389"/>
                  </a:lnTo>
                  <a:lnTo>
                    <a:pt x="2267" y="405"/>
                  </a:lnTo>
                  <a:lnTo>
                    <a:pt x="2249" y="410"/>
                  </a:lnTo>
                  <a:lnTo>
                    <a:pt x="33" y="410"/>
                  </a:lnTo>
                  <a:lnTo>
                    <a:pt x="10" y="403"/>
                  </a:lnTo>
                  <a:lnTo>
                    <a:pt x="0" y="385"/>
                  </a:lnTo>
                  <a:lnTo>
                    <a:pt x="5" y="36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44000" y="4671720"/>
              <a:ext cx="426960" cy="65880"/>
            </a:xfrm>
            <a:custGeom>
              <a:avLst/>
              <a:gdLst/>
              <a:ahLst/>
              <a:rect l="l" t="t" r="r" b="b"/>
              <a:pathLst>
                <a:path w="1514" h="263">
                  <a:moveTo>
                    <a:pt x="203" y="0"/>
                  </a:moveTo>
                  <a:lnTo>
                    <a:pt x="1443" y="0"/>
                  </a:lnTo>
                  <a:lnTo>
                    <a:pt x="1514" y="263"/>
                  </a:lnTo>
                  <a:lnTo>
                    <a:pt x="0" y="26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84640" y="4671720"/>
              <a:ext cx="129600" cy="65880"/>
            </a:xfrm>
            <a:custGeom>
              <a:avLst/>
              <a:gdLst/>
              <a:ahLst/>
              <a:rect l="l" t="t" r="r" b="b"/>
              <a:pathLst>
                <a:path w="459" h="263">
                  <a:moveTo>
                    <a:pt x="0" y="0"/>
                  </a:moveTo>
                  <a:lnTo>
                    <a:pt x="272" y="0"/>
                  </a:lnTo>
                  <a:lnTo>
                    <a:pt x="459" y="263"/>
                  </a:lnTo>
                  <a:lnTo>
                    <a:pt x="86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89080" y="4384800"/>
            <a:ext cx="352440" cy="25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6600" y="4419720"/>
            <a:ext cx="255600" cy="17460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0520" y="4610160"/>
            <a:ext cx="316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30800" y="4556160"/>
            <a:ext cx="176040" cy="7452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30"/>
                </a:moveTo>
                <a:lnTo>
                  <a:pt x="231" y="0"/>
                </a:lnTo>
                <a:lnTo>
                  <a:pt x="284" y="9"/>
                </a:lnTo>
                <a:lnTo>
                  <a:pt x="324" y="37"/>
                </a:lnTo>
                <a:lnTo>
                  <a:pt x="380" y="182"/>
                </a:lnTo>
                <a:lnTo>
                  <a:pt x="416" y="237"/>
                </a:lnTo>
                <a:lnTo>
                  <a:pt x="446" y="265"/>
                </a:lnTo>
                <a:lnTo>
                  <a:pt x="478" y="277"/>
                </a:lnTo>
                <a:lnTo>
                  <a:pt x="527" y="288"/>
                </a:lnTo>
                <a:lnTo>
                  <a:pt x="624" y="29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9880" y="4648320"/>
            <a:ext cx="642960" cy="104760"/>
            <a:chOff x="3809880" y="4648320"/>
            <a:chExt cx="642960" cy="104760"/>
          </a:xfrm>
        </p:grpSpPr>
        <p:sp>
          <p:nvSpPr>
            <p:cNvPr id="138" name=""/>
            <p:cNvSpPr/>
            <p:nvPr/>
          </p:nvSpPr>
          <p:spPr>
            <a:xfrm>
              <a:off x="3809880" y="4648320"/>
              <a:ext cx="642960" cy="104760"/>
            </a:xfrm>
            <a:custGeom>
              <a:avLst/>
              <a:gdLst/>
              <a:ahLst/>
              <a:rect l="l" t="t" r="r" b="b"/>
              <a:pathLst>
                <a:path w="2277" h="410">
                  <a:moveTo>
                    <a:pt x="282" y="0"/>
                  </a:moveTo>
                  <a:lnTo>
                    <a:pt x="2002" y="0"/>
                  </a:lnTo>
                  <a:lnTo>
                    <a:pt x="2275" y="372"/>
                  </a:lnTo>
                  <a:lnTo>
                    <a:pt x="2277" y="389"/>
                  </a:lnTo>
                  <a:lnTo>
                    <a:pt x="2267" y="405"/>
                  </a:lnTo>
                  <a:lnTo>
                    <a:pt x="2249" y="410"/>
                  </a:lnTo>
                  <a:lnTo>
                    <a:pt x="33" y="410"/>
                  </a:lnTo>
                  <a:lnTo>
                    <a:pt x="10" y="403"/>
                  </a:lnTo>
                  <a:lnTo>
                    <a:pt x="0" y="385"/>
                  </a:lnTo>
                  <a:lnTo>
                    <a:pt x="5" y="36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45880" y="4671720"/>
              <a:ext cx="426960" cy="65880"/>
            </a:xfrm>
            <a:custGeom>
              <a:avLst/>
              <a:gdLst/>
              <a:ahLst/>
              <a:rect l="l" t="t" r="r" b="b"/>
              <a:pathLst>
                <a:path w="1514" h="263">
                  <a:moveTo>
                    <a:pt x="203" y="0"/>
                  </a:moveTo>
                  <a:lnTo>
                    <a:pt x="1443" y="0"/>
                  </a:lnTo>
                  <a:lnTo>
                    <a:pt x="1514" y="263"/>
                  </a:lnTo>
                  <a:lnTo>
                    <a:pt x="0" y="26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6520" y="4671720"/>
              <a:ext cx="129600" cy="65880"/>
            </a:xfrm>
            <a:custGeom>
              <a:avLst/>
              <a:gdLst/>
              <a:ahLst/>
              <a:rect l="l" t="t" r="r" b="b"/>
              <a:pathLst>
                <a:path w="459" h="263">
                  <a:moveTo>
                    <a:pt x="0" y="0"/>
                  </a:moveTo>
                  <a:lnTo>
                    <a:pt x="272" y="0"/>
                  </a:lnTo>
                  <a:lnTo>
                    <a:pt x="459" y="263"/>
                  </a:lnTo>
                  <a:lnTo>
                    <a:pt x="86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90960" y="4384800"/>
            <a:ext cx="352440" cy="25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419720"/>
            <a:ext cx="255600" cy="17460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038480" y="4623840"/>
            <a:ext cx="22392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429000"/>
            <a:ext cx="228600" cy="7632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30"/>
                </a:moveTo>
                <a:lnTo>
                  <a:pt x="231" y="0"/>
                </a:lnTo>
                <a:lnTo>
                  <a:pt x="284" y="9"/>
                </a:lnTo>
                <a:lnTo>
                  <a:pt x="324" y="37"/>
                </a:lnTo>
                <a:lnTo>
                  <a:pt x="380" y="182"/>
                </a:lnTo>
                <a:lnTo>
                  <a:pt x="416" y="237"/>
                </a:lnTo>
                <a:lnTo>
                  <a:pt x="446" y="265"/>
                </a:lnTo>
                <a:lnTo>
                  <a:pt x="478" y="277"/>
                </a:lnTo>
                <a:lnTo>
                  <a:pt x="527" y="288"/>
                </a:lnTo>
                <a:lnTo>
                  <a:pt x="624" y="29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133720" y="3276720"/>
            <a:ext cx="685800" cy="533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20880" y="2860560"/>
            <a:ext cx="25560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86040" y="2928960"/>
            <a:ext cx="1540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36880" y="31449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6560" y="2990880"/>
            <a:ext cx="4140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22400" y="2930400"/>
            <a:ext cx="1116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09880" y="29718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9880" y="3056040"/>
            <a:ext cx="237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36880" y="2860560"/>
            <a:ext cx="25416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0240" y="2928960"/>
            <a:ext cx="1558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51080" y="3144960"/>
            <a:ext cx="97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21120" y="2990880"/>
            <a:ext cx="4284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36960" y="2930400"/>
            <a:ext cx="1116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29718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056040"/>
            <a:ext cx="255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51080" y="2860560"/>
            <a:ext cx="25560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16240" y="2928960"/>
            <a:ext cx="1540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7080" y="31449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36760" y="2990880"/>
            <a:ext cx="4284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2930400"/>
            <a:ext cx="10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0080" y="29718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59080" y="3103560"/>
            <a:ext cx="104760" cy="1144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044960"/>
            <a:ext cx="255600" cy="762120"/>
          </a:xfrm>
          <a:prstGeom prst="rect">
            <a:avLst/>
          </a:prstGeom>
          <a:solidFill>
            <a:srgbClr val="cc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7800" y="4113360"/>
            <a:ext cx="154080" cy="218880"/>
          </a:xfrm>
          <a:prstGeom prst="rect">
            <a:avLst/>
          </a:prstGeom>
          <a:solidFill>
            <a:srgbClr val="cc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98640" y="4329000"/>
            <a:ext cx="792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8320" y="4175280"/>
            <a:ext cx="41400" cy="98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4520" y="4114800"/>
            <a:ext cx="10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640" y="4156200"/>
            <a:ext cx="27000" cy="475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71640" y="4240080"/>
            <a:ext cx="23760" cy="478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828800" y="36576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6576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55360" y="4724280"/>
            <a:ext cx="89676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65200" y="4800600"/>
            <a:ext cx="36360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800600"/>
            <a:ext cx="91440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669840" y="45896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355640" y="4589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60920" y="45896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7339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TL1,SNMP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4960" y="3276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標楷體"/>
              </a:rPr>
              <a:t>Network Managemen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36080" y="42735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21320" y="421488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標楷體"/>
              </a:rPr>
              <a:t>Element Managemen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7480" y="5738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5880" y="5732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49920" y="5738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3040" y="57387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42160" y="573876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67440" y="573876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NE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6600" y="48942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1520" y="48942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151000" y="48942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64840" y="502272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標楷體"/>
              </a:rPr>
              <a:t>SNMP,Proprietar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4640" y="5257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標楷體"/>
              </a:rPr>
              <a:t>Network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8"/>
          <a:srcRect l="0" t="17360" r="13817" b="0"/>
          <a:stretch/>
        </p:blipFill>
        <p:spPr>
          <a:xfrm>
            <a:off x="533520" y="5275440"/>
            <a:ext cx="6220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rcRect l="0" t="17360" r="13817" b="0"/>
          <a:stretch/>
        </p:blipFill>
        <p:spPr>
          <a:xfrm>
            <a:off x="2133720" y="5275440"/>
            <a:ext cx="6220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rcRect l="0" t="17360" r="13817" b="0"/>
          <a:stretch/>
        </p:blipFill>
        <p:spPr>
          <a:xfrm>
            <a:off x="1219320" y="5275440"/>
            <a:ext cx="622080" cy="50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32200" y="2743200"/>
            <a:ext cx="228600" cy="7632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30"/>
                </a:moveTo>
                <a:lnTo>
                  <a:pt x="231" y="0"/>
                </a:lnTo>
                <a:lnTo>
                  <a:pt x="284" y="9"/>
                </a:lnTo>
                <a:lnTo>
                  <a:pt x="324" y="37"/>
                </a:lnTo>
                <a:lnTo>
                  <a:pt x="380" y="182"/>
                </a:lnTo>
                <a:lnTo>
                  <a:pt x="416" y="237"/>
                </a:lnTo>
                <a:lnTo>
                  <a:pt x="446" y="265"/>
                </a:lnTo>
                <a:lnTo>
                  <a:pt x="478" y="277"/>
                </a:lnTo>
                <a:lnTo>
                  <a:pt x="527" y="288"/>
                </a:lnTo>
                <a:lnTo>
                  <a:pt x="624" y="29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3505320" y="24382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38480" y="2174760"/>
            <a:ext cx="25560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03640" y="2243160"/>
            <a:ext cx="1540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54480" y="24591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24160" y="2305080"/>
            <a:ext cx="4140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244600"/>
            <a:ext cx="10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27480" y="22860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7480" y="2370240"/>
            <a:ext cx="237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54480" y="2174760"/>
            <a:ext cx="25416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17840" y="2243160"/>
            <a:ext cx="1558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68680" y="2459160"/>
            <a:ext cx="97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38720" y="2305080"/>
            <a:ext cx="4284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560" y="2244600"/>
            <a:ext cx="1116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41680" y="22860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1680" y="2370240"/>
            <a:ext cx="255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68680" y="2174760"/>
            <a:ext cx="255600" cy="76212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3840" y="2243160"/>
            <a:ext cx="154080" cy="21888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84680" y="24591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54360" y="2305080"/>
            <a:ext cx="43200" cy="982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0560" y="2244600"/>
            <a:ext cx="10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2286000"/>
            <a:ext cx="2700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76680" y="2417760"/>
            <a:ext cx="104760" cy="1144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016000"/>
            <a:ext cx="228600" cy="7632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30"/>
                </a:moveTo>
                <a:lnTo>
                  <a:pt x="231" y="0"/>
                </a:lnTo>
                <a:lnTo>
                  <a:pt x="284" y="9"/>
                </a:lnTo>
                <a:lnTo>
                  <a:pt x="324" y="37"/>
                </a:lnTo>
                <a:lnTo>
                  <a:pt x="380" y="182"/>
                </a:lnTo>
                <a:lnTo>
                  <a:pt x="416" y="237"/>
                </a:lnTo>
                <a:lnTo>
                  <a:pt x="446" y="265"/>
                </a:lnTo>
                <a:lnTo>
                  <a:pt x="478" y="277"/>
                </a:lnTo>
                <a:lnTo>
                  <a:pt x="527" y="288"/>
                </a:lnTo>
                <a:lnTo>
                  <a:pt x="624" y="29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4191120" y="1676520"/>
            <a:ext cx="685800" cy="533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778280" y="1447920"/>
            <a:ext cx="255600" cy="76176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440" y="1515960"/>
            <a:ext cx="154080" cy="21924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4280" y="17319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3960" y="1577880"/>
            <a:ext cx="41400" cy="986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9800" y="1517760"/>
            <a:ext cx="1116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67280" y="1558800"/>
            <a:ext cx="27000" cy="478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67280" y="1643040"/>
            <a:ext cx="237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94280" y="1447920"/>
            <a:ext cx="254160" cy="76176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7640" y="1515960"/>
            <a:ext cx="155880" cy="21924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08480" y="1731960"/>
            <a:ext cx="97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78520" y="1577880"/>
            <a:ext cx="42840" cy="986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94360" y="1517760"/>
            <a:ext cx="1116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558800"/>
            <a:ext cx="27000" cy="478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643040"/>
            <a:ext cx="25560" cy="4752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08480" y="1447920"/>
            <a:ext cx="255600" cy="76176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3640" y="1515960"/>
            <a:ext cx="154080" cy="219240"/>
          </a:xfrm>
          <a:prstGeom prst="rect">
            <a:avLst/>
          </a:prstGeom>
          <a:solidFill>
            <a:srgbClr val="66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4480" y="1731960"/>
            <a:ext cx="7920" cy="4730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4160" y="1577880"/>
            <a:ext cx="42840" cy="986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0360" y="1517760"/>
            <a:ext cx="10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97480" y="1558800"/>
            <a:ext cx="27000" cy="478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316480" y="1690560"/>
            <a:ext cx="104760" cy="114480"/>
          </a:xfrm>
          <a:prstGeom prst="rect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162" idx="3"/>
            <a:endCxn id="209" idx="2"/>
          </p:cNvCxnSpPr>
          <p:nvPr/>
        </p:nvCxnSpPr>
        <p:spPr>
          <a:xfrm flipV="1">
            <a:off x="3375000" y="2936160"/>
            <a:ext cx="1007280" cy="445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18" idx="3"/>
            <a:endCxn id="232" idx="2"/>
          </p:cNvCxnSpPr>
          <p:nvPr/>
        </p:nvCxnSpPr>
        <p:spPr>
          <a:xfrm flipV="1">
            <a:off x="4692240" y="2209320"/>
            <a:ext cx="429480" cy="48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5567400" y="245268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標楷體"/>
              </a:rPr>
              <a:t>Service Managemen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167652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標楷體"/>
              </a:rPr>
              <a:t>Business Managemen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4290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4197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6668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1FB-341C-4BD4-A4FA-0072307CD7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DSL2/2+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Higher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onger Reach - READS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Seamless Rate 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oop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LT: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ouble Ended Lin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T: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ingle Ended Lin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998-F861-4CF5-8EA3-FD5F93DBC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nagement Function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anagement 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Management (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Management (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anagement (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Management (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B9E-B260-4B92-AD5B-43B0DA7B6B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 CM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/Server Multi-Ti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Java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Commerci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Northboun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- 1000 to 10000 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650-9CCA-4A26-9B80-7C1C6333A6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MS Architectur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66680" y="1322280"/>
            <a:ext cx="7467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73-ADCD-474A-A592-888F9E157F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evice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2004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99B-8773-4CEF-9951-DD8B2B709D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SL Status Repor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73F-6E41-4517-870C-E659B1E6A7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SL Line Profi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543800" cy="43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69D-E9FC-42FF-A299-488037B1DA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SL Alarm Profi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CCD-6EC7-437A-B99A-1F95852B04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nectio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VCCs)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1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364-A9D9-4B86-BAF4-766A72A0F6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erformance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86880" cy="39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326-0AD9-40B1-B524-C93784E8BF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ffic Statistic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5562720" cy="3200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572080" cy="32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DBA-0FB8-44A6-8CD9-A0AB96652A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DSL/ADSL2/ADSL2+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057400"/>
          <a:ext cx="7975440" cy="57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975440" cy="57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579-E209-47E2-B54D-DB95A56AFD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Fault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351-9E5D-462D-8D1E-80C7BB10F3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ridging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41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D19-06E9-4FF6-AF53-05AAD0FB3D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ecurity Manag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4521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600200" y="1523880"/>
            <a:ext cx="59436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0F9-3966-4574-B689-75BFE00A1E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iagnostic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5 OAM Loop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267080" cy="27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449568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5EA-F4C6-4B8B-B160-3597B57A5B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Firmware Upgrad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334120" cy="46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E45-E6DD-4FA9-B7BD-582F75F330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figuration Backup/Restor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334120" cy="46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32E-2095-4817-9B84-83393B21E4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D33-7B45-4AE2-9639-C6A70ED2FE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Arial"/>
                <a:ea typeface="SimSun"/>
              </a:rPr>
              <a:t>CPE</a:t>
            </a:r>
            <a:r>
              <a:rPr b="1" lang="zh-TW" sz="4000" spc="-1" strike="noStrike">
                <a:solidFill>
                  <a:srgbClr val="cc0000"/>
                </a:solidFill>
                <a:latin typeface="Arial"/>
              </a:rPr>
              <a:t> Specification</a:t>
            </a:r>
            <a:r>
              <a:rPr b="1" lang="zh-TW" sz="4000" spc="-1" strike="noStrike">
                <a:solidFill>
                  <a:srgbClr val="cc0000"/>
                </a:solidFill>
                <a:latin typeface="Arial"/>
                <a:ea typeface="SimSun"/>
              </a:rPr>
              <a:t> –DSL Solution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SimSun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ximum Downstream rate of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SimSu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ximum Upstream rate of 1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DSL2/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ximum Downstream rate of 2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ximum Upstream rate of 1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DSL ( G.SHDS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ymmetrical data rates from 192 Kbps up to 2.3 Mbps ( one pai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238640" y="3218040"/>
          <a:ext cx="663480" cy="42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QoS Flash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3218040"/>
                    <a:ext cx="663480" cy="42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1D4-6C67-4496-8213-A0B43EFC37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DSL2/2+ Route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gor2700e/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gor2700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gor2800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12F-169D-4AB1-932B-B3E4DFAF41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e/G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competivity ADSL2/2+ security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802.11g WLAN ( Vigor2700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-OVERDRIVE</a:t>
            </a:r>
            <a:r>
              <a:rPr b="0" lang="zh-TW" sz="2800" spc="-1" strike="noStrike" baseline="25000">
                <a:solidFill>
                  <a:srgbClr val="000000"/>
                </a:solidFill>
                <a:latin typeface="Arial"/>
              </a:rPr>
              <a:t>T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(use Packet Burst, Block ACK and Frame Aggregation) increases 40% wireles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supports IP Filter, MAC Address Control, DoS/DDoS Protection and URL Content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30F-23EA-4AA7-9281-83F0DBDD32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in Map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176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8381880" cy="176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911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L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L2/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B97-2CF7-4911-A5A1-135556F5A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e/G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0" name="2700E_a1" descr=""/>
          <p:cNvPicPr/>
          <p:nvPr/>
        </p:nvPicPr>
        <p:blipFill>
          <a:blip r:embed="rId1"/>
          <a:stretch/>
        </p:blipFill>
        <p:spPr>
          <a:xfrm>
            <a:off x="760320" y="2004840"/>
            <a:ext cx="3587760" cy="1393920"/>
          </a:xfrm>
          <a:prstGeom prst="rect">
            <a:avLst/>
          </a:prstGeom>
          <a:ln w="0">
            <a:noFill/>
          </a:ln>
        </p:spPr>
      </p:pic>
      <p:pic>
        <p:nvPicPr>
          <p:cNvPr id="301" name="2700E_a4" descr=""/>
          <p:cNvPicPr/>
          <p:nvPr/>
        </p:nvPicPr>
        <p:blipFill>
          <a:blip r:embed="rId2"/>
          <a:stretch/>
        </p:blipFill>
        <p:spPr>
          <a:xfrm>
            <a:off x="760320" y="4010040"/>
            <a:ext cx="3587760" cy="1393920"/>
          </a:xfrm>
          <a:prstGeom prst="rect">
            <a:avLst/>
          </a:prstGeom>
          <a:ln w="0">
            <a:noFill/>
          </a:ln>
        </p:spPr>
      </p:pic>
      <p:pic>
        <p:nvPicPr>
          <p:cNvPr id="302" name="2700Ge_a_1" descr=""/>
          <p:cNvPicPr/>
          <p:nvPr/>
        </p:nvPicPr>
        <p:blipFill>
          <a:blip r:embed="rId3"/>
          <a:stretch/>
        </p:blipFill>
        <p:spPr>
          <a:xfrm>
            <a:off x="5114880" y="1728720"/>
            <a:ext cx="3587760" cy="1663920"/>
          </a:xfrm>
          <a:prstGeom prst="rect">
            <a:avLst/>
          </a:prstGeom>
          <a:ln w="0">
            <a:noFill/>
          </a:ln>
        </p:spPr>
      </p:pic>
      <p:pic>
        <p:nvPicPr>
          <p:cNvPr id="303" name="2700Ge_a_4" descr=""/>
          <p:cNvPicPr/>
          <p:nvPr/>
        </p:nvPicPr>
        <p:blipFill>
          <a:blip r:embed="rId4"/>
          <a:stretch/>
        </p:blipFill>
        <p:spPr>
          <a:xfrm>
            <a:off x="5114880" y="3732120"/>
            <a:ext cx="3587760" cy="16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F74-94A0-4EE9-BD92-A4CD10A017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integration with ADSL2+, 802.11g, VoIP and I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-OVERDRIVE</a:t>
            </a:r>
            <a:r>
              <a:rPr b="0" lang="en-US" sz="2400" spc="-1" strike="noStrike" baseline="25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se Packet Burst, Block ACK and Frame Aggregation) increases 40% wirel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XS port supports SIP and MGCP ( optiona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STN/ISDN Loop-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 support Call Hold, Call Waiting, Call Transfer, Call Forwarding, DND (Do Not Disturb) and T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MP proxy &amp; snooping for triple-pla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F7E-11BB-4695-9F8B-1D3FF901806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wo VPN tunnels for teleworker and LAN-to-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utomatic ISDN backup when ADSL2+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59F-5279-4192-91E2-98B1A6C54BA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9" name="2700_A" descr=""/>
          <p:cNvPicPr/>
          <p:nvPr/>
        </p:nvPicPr>
        <p:blipFill>
          <a:blip r:embed="rId1"/>
          <a:stretch/>
        </p:blipFill>
        <p:spPr>
          <a:xfrm>
            <a:off x="552600" y="1866960"/>
            <a:ext cx="3671640" cy="1373040"/>
          </a:xfrm>
          <a:prstGeom prst="rect">
            <a:avLst/>
          </a:prstGeom>
          <a:ln w="0">
            <a:noFill/>
          </a:ln>
        </p:spPr>
      </p:pic>
      <p:pic>
        <p:nvPicPr>
          <p:cNvPr id="310" name="2700_B" descr=""/>
          <p:cNvPicPr/>
          <p:nvPr/>
        </p:nvPicPr>
        <p:blipFill>
          <a:blip r:embed="rId2"/>
          <a:stretch/>
        </p:blipFill>
        <p:spPr>
          <a:xfrm>
            <a:off x="552600" y="3732120"/>
            <a:ext cx="3671640" cy="1374840"/>
          </a:xfrm>
          <a:prstGeom prst="rect">
            <a:avLst/>
          </a:prstGeom>
          <a:ln w="0">
            <a:noFill/>
          </a:ln>
        </p:spPr>
      </p:pic>
      <p:pic>
        <p:nvPicPr>
          <p:cNvPr id="311" name="2700G_A" descr=""/>
          <p:cNvPicPr/>
          <p:nvPr/>
        </p:nvPicPr>
        <p:blipFill>
          <a:blip r:embed="rId3"/>
          <a:stretch/>
        </p:blipFill>
        <p:spPr>
          <a:xfrm>
            <a:off x="4838760" y="1866960"/>
            <a:ext cx="3672000" cy="1373040"/>
          </a:xfrm>
          <a:prstGeom prst="rect">
            <a:avLst/>
          </a:prstGeom>
          <a:ln w="0">
            <a:noFill/>
          </a:ln>
        </p:spPr>
      </p:pic>
      <p:pic>
        <p:nvPicPr>
          <p:cNvPr id="312" name="2700G_B" descr=""/>
          <p:cNvPicPr/>
          <p:nvPr/>
        </p:nvPicPr>
        <p:blipFill>
          <a:blip r:embed="rId4"/>
          <a:stretch/>
        </p:blipFill>
        <p:spPr>
          <a:xfrm>
            <a:off x="4838760" y="3732120"/>
            <a:ext cx="367200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F33-9394-455C-AD49-94200AA714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700V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898880" y="3755880"/>
            <a:ext cx="3668760" cy="1371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22360" y="3755880"/>
            <a:ext cx="3670200" cy="1371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22360" y="1795320"/>
            <a:ext cx="3670200" cy="13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4898880" y="1795320"/>
            <a:ext cx="366876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259-88BB-4D1A-970B-A898299FDF7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8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High-integration with ADSL2+, 802.11g, VoIP and I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perG</a:t>
            </a:r>
            <a:r>
              <a:rPr b="0" lang="zh-TW" sz="2400" spc="-1" strike="noStrike" baseline="25000">
                <a:solidFill>
                  <a:srgbClr val="000000"/>
                </a:solidFill>
                <a:latin typeface="Arial"/>
              </a:rPr>
              <a:t>TM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provides up to 108Mbps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ne USB 1.1 host for USB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wo FXS ports support SIP and MGCP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pplementary services support Call Hold, Call Waiting, Call Transfer, Call Forwarding, DND (Do Not Disturb) and T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QoS for assuring bandwidth for media/voice/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DD3-1062-4721-ACBD-327E80673EE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8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2 VPN tunnels with hardware-based DES/3DES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utomatic ISDN backup when ADSL2+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D4A-2574-4BD8-A2A9-0E0B53F820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8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22360" y="3755880"/>
            <a:ext cx="3451320" cy="1306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98880" y="3755880"/>
            <a:ext cx="3449880" cy="1263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4898880" y="1795320"/>
            <a:ext cx="3449880" cy="1300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522360" y="1795320"/>
            <a:ext cx="344808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85F-222E-4C0F-B814-8EE731A73F4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2800V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898880" y="1795320"/>
            <a:ext cx="3451320" cy="13003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22360" y="1795320"/>
            <a:ext cx="3452760" cy="1287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22360" y="3755880"/>
            <a:ext cx="3452760" cy="13068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898880" y="3755880"/>
            <a:ext cx="3451320" cy="12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2D1-4D5E-4FA1-AF72-AC8DA4D4CC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SimSun"/>
              </a:rPr>
              <a:t>G.SHDSL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.SHDSL will be a significant factor in the rapidly growing worldwide marketplace for business-class and residential SD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ymmetrical high-data-rate DS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Offers data at 192Kbps to 2.3Mbps over a single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8D2-079B-48E8-A220-827A60B10C8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C/FDM Mod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97280"/>
            <a:ext cx="8381880" cy="176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381880" cy="1765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911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DM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D4F-51E8-4837-B3E9-42334F274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.SHDSL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old leased-line (E1/T1)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3100_e" descr=""/>
          <p:cNvPicPr/>
          <p:nvPr/>
        </p:nvPicPr>
        <p:blipFill>
          <a:blip r:embed="rId1"/>
          <a:stretch/>
        </p:blipFill>
        <p:spPr>
          <a:xfrm>
            <a:off x="1382760" y="2281320"/>
            <a:ext cx="6234120" cy="34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D0F-0A9E-4816-9EAA-B9ED7FF1EFD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.SHDSL - Applic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382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Hi-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284720" cy="1797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4005000" cy="2614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9EF-E27E-4C1D-B85B-C18E61DCEC3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Vigor 3100 Seri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High-integration with G.SHDSL, 802.11g, VoIP and I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ymmetrical data rates up-to 2.3 Mbps ( Vigor3100 with one pair ) and 4.6 Mbps ( Vigor3120 with two pai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nfigurable CPE/CO for Back-to-Back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perG</a:t>
            </a:r>
            <a:r>
              <a:rPr b="0" lang="zh-TW" sz="2400" spc="-1" strike="noStrike" baseline="25000">
                <a:solidFill>
                  <a:srgbClr val="000000"/>
                </a:solidFill>
                <a:latin typeface="Arial"/>
              </a:rPr>
              <a:t>TM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provides up to 108Mbps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ne USB 1.1 host for USB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wo FXS ports support SIP and MGCP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D7D-D6D3-415F-B260-E0E8F124604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31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pplementary services support Call Hold, Call Waiting, Call Transfer, Call Forwarding, DND (Do Not Disturb) and T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QoS for assuring bandwidth for media/voice/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2 VPN tunnels with hardware-based DES/3DES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utomatic ISDN backup when DS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DBC-382A-408E-9BAD-86ECE56A22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gor3100 Ser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47" name="V3100VGi" descr=""/>
          <p:cNvPicPr/>
          <p:nvPr/>
        </p:nvPicPr>
        <p:blipFill>
          <a:blip r:embed="rId1"/>
          <a:stretch/>
        </p:blipFill>
        <p:spPr>
          <a:xfrm>
            <a:off x="208080" y="2073240"/>
            <a:ext cx="8634240" cy="1128600"/>
          </a:xfrm>
          <a:prstGeom prst="rect">
            <a:avLst/>
          </a:prstGeom>
          <a:ln w="0">
            <a:noFill/>
          </a:ln>
        </p:spPr>
      </p:pic>
      <p:pic>
        <p:nvPicPr>
          <p:cNvPr id="348" name="V3120VGi" descr=""/>
          <p:cNvPicPr/>
          <p:nvPr/>
        </p:nvPicPr>
        <p:blipFill>
          <a:blip r:embed="rId2"/>
          <a:stretch/>
        </p:blipFill>
        <p:spPr>
          <a:xfrm>
            <a:off x="208080" y="3801960"/>
            <a:ext cx="8634240" cy="112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56E-04B7-4D9D-95B4-3A8642A356A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SL2/2+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-DSLAM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-Pl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E57-2028-4479-9190-30BA695F9F8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PE Product Roadmap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30520" y="5938920"/>
            <a:ext cx="6986520" cy="46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019400"/>
            <a:ext cx="1401840" cy="4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SL Security 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06400" y="1219320"/>
            <a:ext cx="24120" cy="4719600"/>
          </a:xfrm>
          <a:prstGeom prst="line">
            <a:avLst/>
          </a:prstGeom>
          <a:ln w="76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5435640"/>
            <a:ext cx="151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39960" y="5435640"/>
            <a:ext cx="15130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4 ‘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82720" y="5468760"/>
            <a:ext cx="158292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1 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46360" y="5468760"/>
            <a:ext cx="136836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2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3080" y="5468760"/>
            <a:ext cx="108612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3 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91080" y="5468760"/>
            <a:ext cx="136836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4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0720" y="5468760"/>
            <a:ext cx="106488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1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706400" y="175248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730160" y="5486400"/>
            <a:ext cx="705636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392120"/>
            <a:ext cx="1371600" cy="28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SL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35600" y="5468760"/>
            <a:ext cx="106524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2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75480" y="5468760"/>
            <a:ext cx="106524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3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840" y="1905120"/>
            <a:ext cx="144756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 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78000" y="25146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706400" y="388620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782360" y="4648320"/>
            <a:ext cx="705636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8000" y="1752480"/>
            <a:ext cx="14479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2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736280" y="1371600"/>
            <a:ext cx="705636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4648320"/>
            <a:ext cx="1401840" cy="6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SL Wireless Security I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360" y="2971800"/>
            <a:ext cx="14018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SL 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706400" y="297180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34290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2700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29718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2800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11520" y="4267080"/>
            <a:ext cx="14479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00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11520" y="38862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00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63800" y="4648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00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40120" y="50292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00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1371600"/>
            <a:ext cx="14018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8 1x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78000" y="137160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8 4x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2133720"/>
            <a:ext cx="1447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206-B98A-4A76-87F1-D48C1E28674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47640" y="5862600"/>
            <a:ext cx="6986880" cy="46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標楷體"/>
              </a:rPr>
              <a:t>CO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716280"/>
            <a:ext cx="1143000" cy="31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914400"/>
            <a:ext cx="23760" cy="4948200"/>
          </a:xfrm>
          <a:prstGeom prst="line">
            <a:avLst/>
          </a:prstGeom>
          <a:ln w="76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2360" y="5359320"/>
            <a:ext cx="151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5861160"/>
            <a:ext cx="40032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22280" y="5877000"/>
            <a:ext cx="40032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57440" y="5359320"/>
            <a:ext cx="15130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4 ‘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5392800"/>
            <a:ext cx="158256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1 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63840" y="5392800"/>
            <a:ext cx="136836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2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00560" y="5392800"/>
            <a:ext cx="108612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3 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1295280"/>
            <a:ext cx="21333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24 port IVD(ADSL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3313080"/>
            <a:ext cx="1944720" cy="4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24 ADSL2/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5105520"/>
            <a:ext cx="172908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 V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08560" y="5392800"/>
            <a:ext cx="1368360" cy="4741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4‘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7840" y="5392800"/>
            <a:ext cx="106524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1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523880" y="167652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547640" y="558468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53960"/>
            <a:ext cx="1143000" cy="31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3846600"/>
            <a:ext cx="16765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ex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5392800"/>
            <a:ext cx="106524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2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92960" y="5392800"/>
            <a:ext cx="1065240" cy="474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9800" rIns="199800" tIns="99720" bIns="99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3‘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1676520"/>
            <a:ext cx="190476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 Har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x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X, LX, LHX)—168 us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205740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236232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 Har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xOptical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X, LX, LHX)---168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62720" y="4191120"/>
            <a:ext cx="1763640" cy="34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L 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4267080"/>
            <a:ext cx="1763640" cy="34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P 0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523880" y="3048120"/>
            <a:ext cx="705672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99840" y="5105520"/>
            <a:ext cx="705636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4648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 ADSL2/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e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4684680"/>
            <a:ext cx="1600200" cy="34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AN Sta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1676520"/>
            <a:ext cx="19051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 Har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x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X, LX, LHX)—336 us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2362320"/>
            <a:ext cx="19051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 Har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xOptical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X, LX, LHX)—336 us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3429000"/>
            <a:ext cx="21337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Mirr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3048120"/>
            <a:ext cx="21337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TP(802.1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53760" y="1295280"/>
            <a:ext cx="7056360" cy="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680" y="1219320"/>
            <a:ext cx="21337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24 port IVD(V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56A-2804-49BE-9683-4712DAAA326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6781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ive Dem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88F-898E-4DB9-B169-50BDA7D42B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00"/>
                </a:solidFill>
                <a:latin typeface="Arial"/>
              </a:rPr>
              <a:t>Seamless Rate Adaptation (SRA)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848720" cy="44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77B-7DA6-4417-A44A-32B50F5969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00"/>
                </a:solidFill>
                <a:latin typeface="Arial"/>
              </a:rPr>
              <a:t>Power Management (PM)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46784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B3C-9FA7-4282-881B-29DB6E96E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ridging Function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d Address Learning and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q VLAN Bri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ing - IGMP Sn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501-A0FA-40E8-B87F-71DAF2954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1:02:08Z</dcterms:created>
  <dc:creator>user</dc:creator>
  <dc:description/>
  <dc:language>en-US</dc:language>
  <cp:lastModifiedBy>Carlos Neves</cp:lastModifiedBy>
  <dcterms:modified xsi:type="dcterms:W3CDTF">2006-09-02T14:17:08Z</dcterms:modified>
  <cp:revision>88</cp:revision>
  <dc:subject/>
  <dc:title>VigorAccess ADSL2+ IP DSLAM</dc:title>
</cp:coreProperties>
</file>